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93636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99"/>
                </a:solidFill>
                <a:uFillTx/>
                <a:latin typeface="Times New Roman"/>
              </a:rPr>
              <a:t>Click to move the slide</a:t>
            </a: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3901680" y="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E9C930-A2BE-4D0F-BDAB-C7FCFF351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90168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FEA14C-CB2D-4851-B52A-D4E049AC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FF7316-B70A-422A-BEDC-32AD9D3A03C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7E00C8-E9CA-4043-95FD-60652DDCF70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6F66E8-4925-446C-A095-2845F9D049D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99E33A-9D3E-4089-B35D-1AA5755D5A1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A76DD4-675D-481F-9143-AA540D40990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CE0D3C-9B77-4E0A-AA2F-6F6C29AD1A3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F35FF3-D88E-4FD0-8E96-470A2EE4197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41A74A-6EC2-4018-B3A5-259F12B6D82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3BE10A-725C-4B0C-97D3-75E8BDBAEDA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64AA2F-C76A-4425-BA48-0B52E639248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B14452-6F18-4AB2-A7EA-A2C48E58AF0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FE49F5-4BA8-4E8C-B8CD-854A10EDA19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3A9FBB-7D1D-4E80-A741-01C192D2616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F9074F-F85D-492D-A11B-67E466170A8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37CBDD-5B12-448F-AF5C-8300CD87753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CB9646-3699-4C1D-A0F5-D47C3B98A13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3902040" y="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4A68DB-C8E8-453A-B4E5-2CEB99EEEAB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902040" y="95169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9AB90A-FBE6-4110-AA05-E0A67D1072E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0880" y="4760640"/>
            <a:ext cx="50464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00 fondo asach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6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81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48" name="8 CuadroTexto"/>
          <p:cNvSpPr/>
          <p:nvPr/>
        </p:nvSpPr>
        <p:spPr>
          <a:xfrm>
            <a:off x="2860560" y="1577880"/>
            <a:ext cx="5310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000"/>
                </a:solidFill>
                <a:latin typeface="Times New Roman"/>
              </a:rPr>
              <a:t>Asociación de Supermercados de Chi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10000"/>
                </a:solidFill>
                <a:latin typeface="Times New Roman"/>
              </a:rPr>
              <a:t>Comisión Nacional de Agricultura Orgánic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4318560" y="5367240"/>
            <a:ext cx="24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10000"/>
                </a:solidFill>
                <a:latin typeface="Times New Roman"/>
              </a:rPr>
              <a:t>Martes, 7 de diciembre de 201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2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81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189160" y="1790640"/>
            <a:ext cx="6404040" cy="44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116.000 Trabajadores Directos. 51% de ellos son mujeres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1.100 Salas con tres o más cajas de salida en todo el país.    450 en Región Metropolitana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15 Cadenas de Supermercados a lo largo del país. Incluye a: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Walmart (Hiper Lider, Lider Express, A Cuenta, Ekono)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Cencosud (Jumbo, Santa Isabel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Unimarc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Supermercados del Sur (Bigger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Falabella (Tottus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Montserra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9709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000"/>
                </a:solidFill>
                <a:latin typeface="Arial"/>
              </a:rPr>
              <a:t>Cuga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Se realizan más de 40 millones de transacciones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mensualmente producto del número de visitas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0000"/>
                </a:solidFill>
                <a:latin typeface="Arial"/>
              </a:rPr>
              <a:t>10.780 Millones de Dólares: Venta Año 2009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25520" y="789120"/>
            <a:ext cx="56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0126"/>
                </a:solidFill>
                <a:uFillTx/>
                <a:latin typeface="Times New Roman"/>
              </a:rPr>
              <a:t>El Sector de Supermercados en Chile:</a:t>
            </a:r>
            <a:br>
              <a:rPr sz="2000"/>
            </a:b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Quienes somo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8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81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994040" y="78912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ASPECTOS COMERCIALES ACTUA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189160" y="1731960"/>
            <a:ext cx="605484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Compras 2009-2010: Entre 0.2% y 2%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Proyecciones futuras:  3% aprox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Principalmente hortaliza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10000"/>
                </a:solidFill>
                <a:latin typeface="Arial"/>
              </a:rPr>
              <a:t>Exhibición de productos orgánicos separados y con señalética ad-ho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24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189160" y="2124000"/>
            <a:ext cx="56516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PRODUCTORES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Falta consistencia en las entregas.  Poco volumen actual origina escasez de productos, mayores precios, menor competividad y menor aceptación entre clientes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Que el productor pequeño que no posee certificación y que es controlado por el SAG, pueda comercializar sus productos en el  supermercado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25520" y="9637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FUTURO Y OPORTUNIDA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24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189160" y="1630440"/>
            <a:ext cx="565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APACITACIÓN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Falta de comunicación por parte de las Autoridades de gobierno de esta normativa hacia las PYMES. (En muchas ocasiones los supermercados capacitamos a las PYMES en el manejo y certificación de productos orgánicos)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Muchos pequeños importadores traen sus productos a granel y los envasan en sus instalaciones, manteniendo su rotulación de "productos orgánicos", sin saber que sus instalaciones requieren de certificación por organismos visados por el SA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Que el agricultor tenga ayuda del estado, un instrumento, subsidio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25520" y="9637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FUTURO Y OPORTUNIDA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6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24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89160" y="1630440"/>
            <a:ext cx="565164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OMERCIALIZACIÓ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Que los certificados de transacción sean  parte de la  ley de orgánicos, para respaldo de la trazabilidad de comercializadores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Que sea parte de la ley de orgánicos la exigencia de rotular  el productor, envasador y/o distribuidor y respectiva certificadora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Productos importados: que se defina la  exigencia para producto orgánico importado, lo cual no implique re certificación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Los certificados de productos orgánicos, deben incluir el envase que los contiene, es decir el producto terminado (el alcance del certificado debería incluir producto mas el envase)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225520" y="9637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FUTURO Y OPORTUNIDA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2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24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189160" y="1630440"/>
            <a:ext cx="565164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FISCALIZACIÓN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No hay una unificación de criterios de los inspectores SAG para aplicar la norma para orgánicos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OMUNICACIÓ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97090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Difusión, información, para el consumidor.  Este aún desconoce el concepto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225520" y="9637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7e0126"/>
                </a:solidFill>
                <a:uFillTx/>
                <a:latin typeface="Times New Roman"/>
              </a:rPr>
              <a:t>FUTURO Y OPORTUNIDA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8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81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sp>
        <p:nvSpPr>
          <p:cNvPr id="90" name="8 CuadroTexto"/>
          <p:cNvSpPr/>
          <p:nvPr/>
        </p:nvSpPr>
        <p:spPr>
          <a:xfrm>
            <a:off x="2860560" y="2884320"/>
            <a:ext cx="531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10000"/>
                </a:solidFill>
                <a:latin typeface="Times New Roman"/>
              </a:rPr>
              <a:t>GRACIAS</a:t>
            </a:r>
            <a:endParaRPr b="0" lang="en-US" sz="6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4318560" y="5367240"/>
            <a:ext cx="24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10000"/>
                </a:solidFill>
                <a:latin typeface="Times New Roman"/>
              </a:rPr>
              <a:t>Martes, 7 de diciembre de 201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1720" y="58320"/>
            <a:ext cx="329076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mercados de Chile  A. G.</a:t>
            </a:r>
            <a:endParaRPr b="1" lang="en-US" sz="1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0" descr="C:\Documents and Settings\Patricio\Escritorio\asach_\imagenes\carro_lleno.gif"/>
          <p:cNvPicPr/>
          <p:nvPr/>
        </p:nvPicPr>
        <p:blipFill>
          <a:blip r:embed="rId1"/>
          <a:stretch/>
        </p:blipFill>
        <p:spPr>
          <a:xfrm>
            <a:off x="114480" y="2781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Documents and Settings\Patricio\Escritorio\asach_\imagenes\nuevo_logo_ch.jpg"/>
          <p:cNvPicPr/>
          <p:nvPr/>
        </p:nvPicPr>
        <p:blipFill>
          <a:blip r:embed="rId2"/>
          <a:stretch/>
        </p:blipFill>
        <p:spPr>
          <a:xfrm>
            <a:off x="58680" y="6329520"/>
            <a:ext cx="2220840" cy="433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24" descr=""/>
          <p:cNvPicPr/>
          <p:nvPr/>
        </p:nvPicPr>
        <p:blipFill>
          <a:blip r:embed="rId3"/>
          <a:stretch/>
        </p:blipFill>
        <p:spPr>
          <a:xfrm>
            <a:off x="1906560" y="871560"/>
            <a:ext cx="5943600" cy="4341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5:18:08Z</dcterms:created>
  <dc:creator>Mary le Gardeur</dc:creator>
  <dc:description/>
  <dc:language>en-US</dc:language>
  <cp:lastModifiedBy>gpino</cp:lastModifiedBy>
  <cp:lastPrinted>2002-07-26T19:23:12Z</cp:lastPrinted>
  <dcterms:modified xsi:type="dcterms:W3CDTF">2010-12-27T20:41:20Z</dcterms:modified>
  <cp:revision>711</cp:revision>
  <dc:subject/>
  <dc:title>Consumers Attitudes 1998 Conducted for the Food Marketing Institute,  by Research International USA</dc:title>
</cp:coreProperties>
</file>